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9D2-80CA-4CF0-896E-565FEE49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F1F-51A9-43DE-A1DF-A1527F95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471-7F69-40B9-95E3-1EB2F50A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B8A-8704-4365-8E80-A031D522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6B17-C16B-45B7-8807-31EF587A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C5C4-583B-438E-A6F4-6ED07E20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96F2-7216-4AC8-83B0-00E0CDF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27DD-D28A-4265-8D9C-10C47FC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624F-81B8-41EA-BDE7-30DCF48B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C69-BE69-472C-B8CF-F39620D6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CBDE-0A27-473F-A29B-21452567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95E-51EB-4B2D-A548-90B7A5D2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21B8-BAAA-4CD9-A973-B9690FA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83FE-5B58-4FE3-A0A5-AAD293E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DF0-EB36-43D1-B2D5-0472509C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F526-24C1-484F-91B4-E0FC0EBB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A1FC-DFC4-4EF0-B1A4-9D71F315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511-A462-4BCF-A6B3-A437089B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7D5-EA4A-4298-8706-DD07AAD3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E55-4356-4C8F-ABA8-022D00C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5E1-D61B-40DB-BD80-7226320F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32B-C866-4856-B19A-2E3A6E0D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F25-DE0B-48BE-9878-5B8B031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503-FE17-4413-AF6F-B6B9B80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7BCE-FA25-471D-8CA6-0779AF0FA2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433E-D3EC-406D-B865-3A5AFCB8C5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olumes/6th%20Grade/TBriscoStudents/Robbie%20Spilker/Math/AnswerKey.ppt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olumes/6th%20Grade/TBriscoStudents/Robbie%20Spilker/Math/AnswerKey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dbook Onl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2895480" y="4267080"/>
            <a:ext cx="2895840" cy="1043280"/>
          </a:xfrm>
          <a:custGeom>
            <a:avLst/>
            <a:gdLst>
              <a:gd name="textAreaLeft" fmla="*/ 67320 w 2895840"/>
              <a:gd name="textAreaRight" fmla="*/ 2828520 w 289584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59942" h="21600">
                <a:moveTo>
                  <a:pt x="0" y="0"/>
                </a:moveTo>
                <a:lnTo>
                  <a:pt x="59942" y="0"/>
                </a:lnTo>
                <a:lnTo>
                  <a:pt x="59942" y="21600"/>
                </a:lnTo>
                <a:lnTo>
                  <a:pt x="0" y="21600"/>
                </a:lnTo>
                <a:close/>
              </a:path>
              <a:path fill="lightenLess" w="59942" h="21600">
                <a:moveTo>
                  <a:pt x="0" y="0"/>
                </a:moveTo>
                <a:lnTo>
                  <a:pt x="59942" y="0"/>
                </a:lnTo>
                <a:lnTo>
                  <a:pt x="58542" y="1400"/>
                </a:lnTo>
                <a:lnTo>
                  <a:pt x="1400" y="1400"/>
                </a:lnTo>
                <a:close/>
              </a:path>
              <a:path fill="darken" w="59942" h="21600">
                <a:moveTo>
                  <a:pt x="59942" y="0"/>
                </a:moveTo>
                <a:lnTo>
                  <a:pt x="59942" y="21600"/>
                </a:lnTo>
                <a:lnTo>
                  <a:pt x="58542" y="20200"/>
                </a:lnTo>
                <a:lnTo>
                  <a:pt x="58542" y="1400"/>
                </a:lnTo>
                <a:close/>
              </a:path>
              <a:path fill="darkenLess" w="59942" h="21600">
                <a:moveTo>
                  <a:pt x="5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42" y="20200"/>
                </a:lnTo>
                <a:close/>
              </a:path>
              <a:path fill="lighten" w="5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Find a Patte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ck all of the possible fun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ample: What is the rule for this tabl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3809880"/>
          <a:ext cx="2438280" cy="20703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5029200" y="3200400"/>
          <a:ext cx="2438280" cy="2070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8200" y="3429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12408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30440" y="33526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426708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7120" y="441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26960" y="17636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: 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ng: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77920" y="3179880"/>
            <a:ext cx="217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o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goes up at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steady 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434340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327672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6120" y="3505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912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495680"/>
            <a:ext cx="6094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952880"/>
            <a:ext cx="6094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4520" y="4038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4048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21760" y="1822320"/>
            <a:ext cx="39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goes up at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eady 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are the first four triangular numbers, what is the tenth on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9625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   *      *          *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*    * *       * 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* *    * * 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* * *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gebra Equatio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5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895480"/>
            <a:ext cx="2286000" cy="685800"/>
          </a:xfrm>
          <a:custGeom>
            <a:avLst/>
            <a:gdLst>
              <a:gd name="textAreaLeft" fmla="*/ 75960 w 2286000"/>
              <a:gd name="textAreaRight" fmla="*/ 2210040 w 2286000"/>
              <a:gd name="textAreaTop" fmla="*/ 75960 h 685800"/>
              <a:gd name="textAreaBottom" fmla="*/ 60984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574" y="2400"/>
                </a:lnTo>
                <a:lnTo>
                  <a:pt x="2400" y="2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574" y="19200"/>
                </a:lnTo>
                <a:lnTo>
                  <a:pt x="69574" y="2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400" y="19200"/>
                </a:lnTo>
                <a:lnTo>
                  <a:pt x="69574" y="19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400" y="2400"/>
                </a:lnTo>
                <a:lnTo>
                  <a:pt x="2400" y="19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3657600"/>
            <a:ext cx="2286000" cy="685800"/>
          </a:xfrm>
          <a:custGeom>
            <a:avLst/>
            <a:gdLst>
              <a:gd name="textAreaLeft" fmla="*/ 68040 w 2286000"/>
              <a:gd name="textAreaRight" fmla="*/ 2217960 w 228600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824" y="2150"/>
                </a:lnTo>
                <a:lnTo>
                  <a:pt x="2150" y="215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824" y="19450"/>
                </a:lnTo>
                <a:lnTo>
                  <a:pt x="69824" y="215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9824" y="1945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5486400" y="2895480"/>
            <a:ext cx="2286000" cy="685800"/>
          </a:xfrm>
          <a:custGeom>
            <a:avLst/>
            <a:gdLst>
              <a:gd name="textAreaLeft" fmla="*/ 79200 w 2286000"/>
              <a:gd name="textAreaRight" fmla="*/ 2206800 w 228600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474" y="2500"/>
                </a:lnTo>
                <a:lnTo>
                  <a:pt x="2500" y="25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474" y="19100"/>
                </a:lnTo>
                <a:lnTo>
                  <a:pt x="69474" y="25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9474" y="191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365760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240" y="1294920"/>
            <a:ext cx="335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to Sol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743200"/>
            <a:ext cx="23619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81952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=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5257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3276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5  +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895480"/>
            <a:ext cx="6098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5029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  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100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17184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680" y="5257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560" y="5257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410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191120"/>
            <a:ext cx="1295640" cy="520560"/>
          </a:xfrm>
          <a:prstGeom prst="borderCallout1">
            <a:avLst>
              <a:gd name="adj1" fmla="val 18750"/>
              <a:gd name="adj2" fmla="val -8333"/>
              <a:gd name="adj3" fmla="val 197231"/>
              <a:gd name="adj4" fmla="val -6041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43434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70760" y="2133720"/>
            <a:ext cx="2073240" cy="1800360"/>
          </a:xfrm>
          <a:prstGeom prst="borderCallout1">
            <a:avLst>
              <a:gd name="adj1" fmla="val 18750"/>
              <a:gd name="adj2" fmla="val -8333"/>
              <a:gd name="adj3" fmla="val 84023"/>
              <a:gd name="adj4" fmla="val -2284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numbers without a variable(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2133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0"/>
            <a:ext cx="2819160" cy="814320"/>
          </a:xfrm>
          <a:custGeom>
            <a:avLst/>
            <a:gdLst>
              <a:gd name="textAreaLeft" fmla="*/ 52560 w 2819160"/>
              <a:gd name="textAreaRight" fmla="*/ 2766600 w 281916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55" h="21600">
                <a:moveTo>
                  <a:pt x="0" y="0"/>
                </a:moveTo>
                <a:lnTo>
                  <a:pt x="74755" y="0"/>
                </a:lnTo>
                <a:lnTo>
                  <a:pt x="74755" y="21600"/>
                </a:lnTo>
                <a:lnTo>
                  <a:pt x="0" y="21600"/>
                </a:lnTo>
                <a:close/>
              </a:path>
              <a:path fill="lightenLess" w="74755" h="21600">
                <a:moveTo>
                  <a:pt x="0" y="0"/>
                </a:moveTo>
                <a:lnTo>
                  <a:pt x="74755" y="0"/>
                </a:lnTo>
                <a:lnTo>
                  <a:pt x="73355" y="1400"/>
                </a:lnTo>
                <a:lnTo>
                  <a:pt x="1400" y="1400"/>
                </a:lnTo>
                <a:close/>
              </a:path>
              <a:path fill="darken" w="74755" h="21600">
                <a:moveTo>
                  <a:pt x="74755" y="0"/>
                </a:moveTo>
                <a:lnTo>
                  <a:pt x="74755" y="21600"/>
                </a:lnTo>
                <a:lnTo>
                  <a:pt x="73355" y="20200"/>
                </a:lnTo>
                <a:lnTo>
                  <a:pt x="73355" y="1400"/>
                </a:lnTo>
                <a:close/>
              </a:path>
              <a:path fill="darkenLess" w="74755" h="21600">
                <a:moveTo>
                  <a:pt x="74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55" y="20200"/>
                </a:lnTo>
                <a:close/>
              </a:path>
              <a:path fill="lighten" w="74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2346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4x+6=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2346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9x+14=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5x+2=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3124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6x+5=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495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7x-3=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44956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3x-9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33412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5x-4=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5334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9x-5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8001000" y="1143000"/>
            <a:ext cx="1143000" cy="762120"/>
          </a:xfrm>
          <a:custGeom>
            <a:avLst/>
            <a:gdLst>
              <a:gd name="textAreaLeft" fmla="*/ 77400 w 1143000"/>
              <a:gd name="textAreaRight" fmla="*/ 1065600 w 1143000"/>
              <a:gd name="textAreaTop" fmla="*/ 77400 h 762120"/>
              <a:gd name="textAreaBottom" fmla="*/ 68472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196" y="2194"/>
                </a:lnTo>
                <a:lnTo>
                  <a:pt x="2194" y="2194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196" y="19406"/>
                </a:lnTo>
                <a:lnTo>
                  <a:pt x="30196" y="2194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30196" y="19406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2552ba">
                  <a:alpha val="75294"/>
                </a:srgbClr>
              </a:gs>
              <a:gs pos="50000">
                <a:srgbClr val="112555">
                  <a:alpha val="75294"/>
                </a:srgbClr>
              </a:gs>
              <a:gs pos="100000">
                <a:srgbClr val="2552ba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819520" cy="814320"/>
          </a:xfrm>
          <a:custGeom>
            <a:avLst/>
            <a:gdLst>
              <a:gd name="textAreaLeft" fmla="*/ 52560 w 2819520"/>
              <a:gd name="textAreaRight" fmla="*/ 2766960 w 28195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65" h="21600">
                <a:moveTo>
                  <a:pt x="0" y="0"/>
                </a:moveTo>
                <a:lnTo>
                  <a:pt x="74765" y="0"/>
                </a:lnTo>
                <a:lnTo>
                  <a:pt x="74765" y="21600"/>
                </a:lnTo>
                <a:lnTo>
                  <a:pt x="0" y="21600"/>
                </a:lnTo>
                <a:close/>
              </a:path>
              <a:path fill="lightenLess" w="74765" h="21600">
                <a:moveTo>
                  <a:pt x="0" y="0"/>
                </a:moveTo>
                <a:lnTo>
                  <a:pt x="74765" y="0"/>
                </a:lnTo>
                <a:lnTo>
                  <a:pt x="73365" y="1400"/>
                </a:lnTo>
                <a:lnTo>
                  <a:pt x="1400" y="1400"/>
                </a:lnTo>
                <a:close/>
              </a:path>
              <a:path fill="darken" w="74765" h="21600">
                <a:moveTo>
                  <a:pt x="74765" y="0"/>
                </a:moveTo>
                <a:lnTo>
                  <a:pt x="74765" y="21600"/>
                </a:lnTo>
                <a:lnTo>
                  <a:pt x="73365" y="20200"/>
                </a:lnTo>
                <a:lnTo>
                  <a:pt x="73365" y="1400"/>
                </a:lnTo>
                <a:close/>
              </a:path>
              <a:path fill="darkenLess" w="74765" h="21600">
                <a:moveTo>
                  <a:pt x="7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65" y="20200"/>
                </a:lnTo>
                <a:close/>
              </a:path>
              <a:path fill="lighten" w="7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Parenthes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3109680"/>
            <a:ext cx="243828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514600"/>
            <a:ext cx="2438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2360" y="3868560"/>
            <a:ext cx="489240" cy="147960"/>
          </a:xfrm>
          <a:custGeom>
            <a:avLst/>
            <a:gdLst/>
            <a:ahLst/>
            <a:rect l="l" t="t" r="r" b="b"/>
            <a:pathLst>
              <a:path w="308" h="93">
                <a:moveTo>
                  <a:pt x="0" y="0"/>
                </a:moveTo>
                <a:cubicBezTo>
                  <a:pt x="6" y="18"/>
                  <a:pt x="2" y="43"/>
                  <a:pt x="18" y="55"/>
                </a:cubicBezTo>
                <a:cubicBezTo>
                  <a:pt x="50" y="77"/>
                  <a:pt x="130" y="93"/>
                  <a:pt x="130" y="93"/>
                </a:cubicBezTo>
                <a:cubicBezTo>
                  <a:pt x="167" y="80"/>
                  <a:pt x="203" y="67"/>
                  <a:pt x="241" y="55"/>
                </a:cubicBezTo>
                <a:cubicBezTo>
                  <a:pt x="308" y="32"/>
                  <a:pt x="297" y="57"/>
                  <a:pt x="29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2360" y="3868560"/>
            <a:ext cx="944640" cy="354240"/>
          </a:xfrm>
          <a:custGeom>
            <a:avLst/>
            <a:gdLst/>
            <a:ahLst/>
            <a:rect l="l" t="t" r="r" b="b"/>
            <a:pathLst>
              <a:path w="595" h="223">
                <a:moveTo>
                  <a:pt x="0" y="0"/>
                </a:moveTo>
                <a:cubicBezTo>
                  <a:pt x="81" y="122"/>
                  <a:pt x="86" y="176"/>
                  <a:pt x="223" y="223"/>
                </a:cubicBezTo>
                <a:cubicBezTo>
                  <a:pt x="244" y="220"/>
                  <a:pt x="394" y="214"/>
                  <a:pt x="446" y="186"/>
                </a:cubicBezTo>
                <a:cubicBezTo>
                  <a:pt x="485" y="164"/>
                  <a:pt x="558" y="111"/>
                  <a:pt x="558" y="111"/>
                </a:cubicBezTo>
                <a:cubicBezTo>
                  <a:pt x="580" y="41"/>
                  <a:pt x="567" y="72"/>
                  <a:pt x="595" y="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+20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0 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267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x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6386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5684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5686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3341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4600" y="5334120"/>
            <a:ext cx="9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2514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24320" y="3749760"/>
            <a:ext cx="357480" cy="206280"/>
          </a:xfrm>
          <a:custGeom>
            <a:avLst/>
            <a:gdLst/>
            <a:ahLst/>
            <a:rect l="l" t="t" r="r" b="b"/>
            <a:pathLst>
              <a:path w="225" h="130">
                <a:moveTo>
                  <a:pt x="2" y="19"/>
                </a:moveTo>
                <a:cubicBezTo>
                  <a:pt x="8" y="43"/>
                  <a:pt x="0" y="76"/>
                  <a:pt x="20" y="93"/>
                </a:cubicBezTo>
                <a:cubicBezTo>
                  <a:pt x="49" y="118"/>
                  <a:pt x="132" y="130"/>
                  <a:pt x="132" y="130"/>
                </a:cubicBezTo>
                <a:cubicBezTo>
                  <a:pt x="216" y="102"/>
                  <a:pt x="225" y="88"/>
                  <a:pt x="22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27560" y="3808440"/>
            <a:ext cx="771480" cy="29520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0"/>
                </a:moveTo>
                <a:cubicBezTo>
                  <a:pt x="32" y="99"/>
                  <a:pt x="107" y="154"/>
                  <a:pt x="204" y="186"/>
                </a:cubicBezTo>
                <a:cubicBezTo>
                  <a:pt x="205" y="185"/>
                  <a:pt x="407" y="160"/>
                  <a:pt x="428" y="149"/>
                </a:cubicBezTo>
                <a:cubicBezTo>
                  <a:pt x="447" y="137"/>
                  <a:pt x="452" y="111"/>
                  <a:pt x="465" y="93"/>
                </a:cubicBezTo>
                <a:cubicBezTo>
                  <a:pt x="486" y="25"/>
                  <a:pt x="483" y="57"/>
                  <a:pt x="48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-12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49960" y="4648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12 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4191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500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518148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5334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264636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55694"/>
              <a:gd name="adj4" fmla="val -1332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y to everything inside parenth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28195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7840" y="4008600"/>
            <a:ext cx="1311480" cy="1313640"/>
          </a:xfrm>
          <a:prstGeom prst="borderCallout1">
            <a:avLst>
              <a:gd name="adj1" fmla="val 18750"/>
              <a:gd name="adj2" fmla="val -8333"/>
              <a:gd name="adj3" fmla="val 36379"/>
              <a:gd name="adj4" fmla="val -90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rid of numbers without a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11480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52840" y="548496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60773"/>
              <a:gd name="adj4" fmla="val -16682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5562720"/>
            <a:ext cx="1523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0"/>
            <a:ext cx="2819160" cy="814320"/>
          </a:xfrm>
          <a:custGeom>
            <a:avLst/>
            <a:gdLst>
              <a:gd name="textAreaLeft" fmla="*/ 52560 w 2819160"/>
              <a:gd name="textAreaRight" fmla="*/ 2766600 w 281916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55" h="21600">
                <a:moveTo>
                  <a:pt x="0" y="0"/>
                </a:moveTo>
                <a:lnTo>
                  <a:pt x="74755" y="0"/>
                </a:lnTo>
                <a:lnTo>
                  <a:pt x="74755" y="21600"/>
                </a:lnTo>
                <a:lnTo>
                  <a:pt x="0" y="21600"/>
                </a:lnTo>
                <a:close/>
              </a:path>
              <a:path fill="lightenLess" w="74755" h="21600">
                <a:moveTo>
                  <a:pt x="0" y="0"/>
                </a:moveTo>
                <a:lnTo>
                  <a:pt x="74755" y="0"/>
                </a:lnTo>
                <a:lnTo>
                  <a:pt x="73355" y="1400"/>
                </a:lnTo>
                <a:lnTo>
                  <a:pt x="1400" y="1400"/>
                </a:lnTo>
                <a:close/>
              </a:path>
              <a:path fill="darken" w="74755" h="21600">
                <a:moveTo>
                  <a:pt x="74755" y="0"/>
                </a:moveTo>
                <a:lnTo>
                  <a:pt x="74755" y="21600"/>
                </a:lnTo>
                <a:lnTo>
                  <a:pt x="73355" y="20200"/>
                </a:lnTo>
                <a:lnTo>
                  <a:pt x="73355" y="1400"/>
                </a:lnTo>
                <a:close/>
              </a:path>
              <a:path fill="darkenLess" w="74755" h="21600">
                <a:moveTo>
                  <a:pt x="74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55" y="20200"/>
                </a:lnTo>
                <a:close/>
              </a:path>
              <a:path fill="lighten" w="74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(Parenthesi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3174480"/>
            <a:ext cx="27432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3(x+5)=2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5(x+7)=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9(x+2)=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3733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5(x-6)=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4(x-4)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2(-9+x)=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2"/>
          </p:cNvPr>
          <p:cNvSpPr/>
          <p:nvPr/>
        </p:nvSpPr>
        <p:spPr>
          <a:xfrm>
            <a:off x="8126280" y="1066680"/>
            <a:ext cx="1017720" cy="762120"/>
          </a:xfrm>
          <a:custGeom>
            <a:avLst/>
            <a:gdLst>
              <a:gd name="textAreaLeft" fmla="*/ 72720 w 1017720"/>
              <a:gd name="textAreaRight" fmla="*/ 945000 w 1017720"/>
              <a:gd name="textAreaTop" fmla="*/ 72720 h 762120"/>
              <a:gd name="textAreaBottom" fmla="*/ 689400 h 762120"/>
            </a:gdLst>
            <a:ahLst/>
            <a:rect l="textAreaLeft" t="textAreaTop" r="textAreaRight" b="textAreaBottom"/>
            <a:pathLst>
              <a:path w="28841" h="21600">
                <a:moveTo>
                  <a:pt x="0" y="0"/>
                </a:moveTo>
                <a:lnTo>
                  <a:pt x="28841" y="0"/>
                </a:lnTo>
                <a:lnTo>
                  <a:pt x="28841" y="21600"/>
                </a:lnTo>
                <a:lnTo>
                  <a:pt x="0" y="21600"/>
                </a:lnTo>
                <a:close/>
              </a:path>
              <a:path fill="lightenLess" w="28841" h="21600">
                <a:moveTo>
                  <a:pt x="0" y="0"/>
                </a:moveTo>
                <a:lnTo>
                  <a:pt x="28841" y="0"/>
                </a:lnTo>
                <a:lnTo>
                  <a:pt x="26771" y="2070"/>
                </a:lnTo>
                <a:lnTo>
                  <a:pt x="2070" y="2070"/>
                </a:lnTo>
                <a:close/>
              </a:path>
              <a:path fill="darken" w="28841" h="21600">
                <a:moveTo>
                  <a:pt x="28841" y="0"/>
                </a:moveTo>
                <a:lnTo>
                  <a:pt x="28841" y="21600"/>
                </a:lnTo>
                <a:lnTo>
                  <a:pt x="26771" y="19530"/>
                </a:lnTo>
                <a:lnTo>
                  <a:pt x="26771" y="2070"/>
                </a:lnTo>
                <a:close/>
              </a:path>
              <a:path fill="darkenLess" w="28841" h="21600">
                <a:moveTo>
                  <a:pt x="28841" y="21600"/>
                </a:moveTo>
                <a:lnTo>
                  <a:pt x="0" y="21600"/>
                </a:lnTo>
                <a:lnTo>
                  <a:pt x="2070" y="19530"/>
                </a:lnTo>
                <a:lnTo>
                  <a:pt x="26771" y="19530"/>
                </a:lnTo>
                <a:close/>
              </a:path>
              <a:path fill="lighten" w="28841" h="21600">
                <a:moveTo>
                  <a:pt x="0" y="21600"/>
                </a:moveTo>
                <a:lnTo>
                  <a:pt x="0" y="0"/>
                </a:lnTo>
                <a:lnTo>
                  <a:pt x="2070" y="2070"/>
                </a:lnTo>
                <a:lnTo>
                  <a:pt x="2070" y="19530"/>
                </a:lnTo>
                <a:close/>
              </a:path>
            </a:pathLst>
          </a:custGeom>
          <a:gradFill rotWithShape="0">
            <a:gsLst>
              <a:gs pos="0">
                <a:srgbClr val="087f12">
                  <a:alpha val="75294"/>
                </a:srgbClr>
              </a:gs>
              <a:gs pos="50000">
                <a:srgbClr val="033a08">
                  <a:alpha val="75294"/>
                </a:srgbClr>
              </a:gs>
              <a:gs pos="100000">
                <a:srgbClr val="087f12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819520" cy="814320"/>
          </a:xfrm>
          <a:custGeom>
            <a:avLst/>
            <a:gdLst>
              <a:gd name="textAreaLeft" fmla="*/ 52560 w 2819520"/>
              <a:gd name="textAreaRight" fmla="*/ 2766960 w 28195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65" h="21600">
                <a:moveTo>
                  <a:pt x="0" y="0"/>
                </a:moveTo>
                <a:lnTo>
                  <a:pt x="74765" y="0"/>
                </a:lnTo>
                <a:lnTo>
                  <a:pt x="74765" y="21600"/>
                </a:lnTo>
                <a:lnTo>
                  <a:pt x="0" y="21600"/>
                </a:lnTo>
                <a:close/>
              </a:path>
              <a:path fill="lightenLess" w="74765" h="21600">
                <a:moveTo>
                  <a:pt x="0" y="0"/>
                </a:moveTo>
                <a:lnTo>
                  <a:pt x="74765" y="0"/>
                </a:lnTo>
                <a:lnTo>
                  <a:pt x="73365" y="1400"/>
                </a:lnTo>
                <a:lnTo>
                  <a:pt x="1400" y="1400"/>
                </a:lnTo>
                <a:close/>
              </a:path>
              <a:path fill="darken" w="74765" h="21600">
                <a:moveTo>
                  <a:pt x="74765" y="0"/>
                </a:moveTo>
                <a:lnTo>
                  <a:pt x="74765" y="21600"/>
                </a:lnTo>
                <a:lnTo>
                  <a:pt x="73365" y="20200"/>
                </a:lnTo>
                <a:lnTo>
                  <a:pt x="73365" y="1400"/>
                </a:lnTo>
                <a:close/>
              </a:path>
              <a:path fill="darkenLess" w="74765" h="21600">
                <a:moveTo>
                  <a:pt x="7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65" y="20200"/>
                </a:lnTo>
                <a:close/>
              </a:path>
              <a:path fill="lighten" w="7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Use Equal Ratio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make problems simpler use equal rati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using these start with what you kn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can cross multiply or use the arrows method to figure out the variab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solve for x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_6_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   192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5715000" y="4191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lick here for answer by cross multip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1296360" y="533412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lick here for arrows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8120" y="16002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ss multip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8640" y="2286000"/>
            <a:ext cx="215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X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6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 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90920"/>
            <a:ext cx="685800" cy="533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42640" y="2590920"/>
            <a:ext cx="76212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809880"/>
            <a:ext cx="3429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x=9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*X=6*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2600" y="396252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3733920"/>
            <a:ext cx="258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92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9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6720" y="1555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57080" y="164448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08240" y="2666880"/>
            <a:ext cx="152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=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60534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ff00"/>
                </a:solidFill>
                <a:latin typeface="Comic Sans MS"/>
              </a:rPr>
              <a:t>Table of cont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Effective Step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ff00"/>
                </a:solidFill>
                <a:latin typeface="Comic Sans MS"/>
              </a:rPr>
              <a:t>Strategi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Draw a mod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Organize a Ta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Find a Patter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lgebra Equ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Use Equal Rati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rows metho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504080" y="2927520"/>
            <a:ext cx="208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X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6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/>
          <p:nvPr/>
        </p:nvCxnSpPr>
        <p:spPr>
          <a:xfrm flipH="1" rot="16200000">
            <a:off x="2339640" y="2383200"/>
            <a:ext cx="45000" cy="1220040"/>
          </a:xfrm>
          <a:prstGeom prst="bentConnector4">
            <a:avLst>
              <a:gd name="adj1" fmla="val -813709"/>
              <a:gd name="adj2" fmla="val 105962"/>
            </a:avLst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52" name=""/>
          <p:cNvSpPr/>
          <p:nvPr/>
        </p:nvSpPr>
        <p:spPr>
          <a:xfrm>
            <a:off x="213552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 rot="16200000">
            <a:off x="2492280" y="3526200"/>
            <a:ext cx="45000" cy="1219680"/>
          </a:xfrm>
          <a:prstGeom prst="bentConnector4">
            <a:avLst>
              <a:gd name="adj1" fmla="val 842741"/>
              <a:gd name="adj2" fmla="val 105963"/>
            </a:avLst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54" name=""/>
          <p:cNvSpPr/>
          <p:nvPr/>
        </p:nvSpPr>
        <p:spPr>
          <a:xfrm>
            <a:off x="1677240" y="45720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2 / 12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356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514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31720" y="3657600"/>
            <a:ext cx="201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X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6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/>
          <p:nvPr/>
        </p:nvCxnSpPr>
        <p:spPr>
          <a:xfrm flipH="1" rot="16200000">
            <a:off x="5844960" y="3145320"/>
            <a:ext cx="45000" cy="1220040"/>
          </a:xfrm>
          <a:prstGeom prst="bentConnector4">
            <a:avLst>
              <a:gd name="adj1" fmla="val -813709"/>
              <a:gd name="adj2" fmla="val 105962"/>
            </a:avLst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59" name=""/>
          <p:cNvSpPr/>
          <p:nvPr/>
        </p:nvSpPr>
        <p:spPr>
          <a:xfrm>
            <a:off x="5029560" y="2666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 / 12 = 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0640" y="533412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rd answer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 = 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ffective Step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nk on Pap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rt With What You Kn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Step at a Tim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derstand the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el your numb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Draw a Mod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models such as pictures, timelines, number lines, shapes and graphs to solve the proble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how many line segments must be added to make this a prism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Click here for ans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562000" y="4419720"/>
            <a:ext cx="1595160" cy="1218960"/>
          </a:xfrm>
          <a:custGeom>
            <a:avLst/>
            <a:gdLst>
              <a:gd name="textAreaLeft" fmla="*/ 329400 w 1595160"/>
              <a:gd name="textAreaRight" fmla="*/ 1265760 w 1595160"/>
              <a:gd name="textAreaTop" fmla="*/ 251640 h 1218960"/>
              <a:gd name="textAreaBottom" fmla="*/ 967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15" y="21600"/>
                </a:lnTo>
                <a:lnTo>
                  <a:pt x="4885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H="1" flipV="1">
            <a:off x="2895480" y="2742480"/>
            <a:ext cx="1595520" cy="1219320"/>
          </a:xfrm>
          <a:custGeom>
            <a:avLst/>
            <a:gdLst>
              <a:gd name="textAreaLeft" fmla="*/ 329760 w 1595520"/>
              <a:gd name="textAreaRight" fmla="*/ 1265760 w 1595520"/>
              <a:gd name="textAreaTop" fmla="*/ 252000 h 1219320"/>
              <a:gd name="textAreaBottom" fmla="*/ 967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15" y="21600"/>
                </a:lnTo>
                <a:lnTo>
                  <a:pt x="4885" y="21600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200400" y="3123360"/>
            <a:ext cx="1595520" cy="1219320"/>
          </a:xfrm>
          <a:custGeom>
            <a:avLst/>
            <a:gdLst>
              <a:gd name="textAreaLeft" fmla="*/ 329760 w 1595520"/>
              <a:gd name="textAreaRight" fmla="*/ 1265760 w 1595520"/>
              <a:gd name="textAreaTop" fmla="*/ 252000 h 1219320"/>
              <a:gd name="textAreaBottom" fmla="*/ 967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15" y="21600"/>
                </a:lnTo>
                <a:lnTo>
                  <a:pt x="4885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95120" y="3962520"/>
            <a:ext cx="3049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495320" y="3962520"/>
            <a:ext cx="22860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276720" y="2819520"/>
            <a:ext cx="380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114800" y="2743200"/>
            <a:ext cx="380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7524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ue: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: orig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029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the sides of an equilateral triangle were doubled in length what would happen to the area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495680"/>
            <a:ext cx="1295280" cy="1067040"/>
          </a:xfrm>
          <a:prstGeom prst="triangle">
            <a:avLst>
              <a:gd name="adj" fmla="val 4988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Organize a Tab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arts or grids to make the problem simpler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ample: how many rectangles are in the draw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648320"/>
            <a:ext cx="3429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64832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4574160" y="541008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lick here for the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143000" y="1397160"/>
          <a:ext cx="2666880" cy="40636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mber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34120" y="5181480"/>
            <a:ext cx="1143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97180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429000"/>
            <a:ext cx="411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9240" y="30481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133720"/>
            <a:ext cx="411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8040" y="16765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41972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181480"/>
            <a:ext cx="1143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5181480"/>
            <a:ext cx="1143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4419720"/>
            <a:ext cx="411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4360" y="3962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I have enough coins to pay the exact price for any item from one cent to and including one dollar, what is the fewest coins I could have in my pocket? What type are the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40:32Z</dcterms:created>
  <dc:creator>Northmont City Schools</dc:creator>
  <dc:description/>
  <dc:language>en-US</dc:language>
  <cp:lastModifiedBy>Northmont City Schools</cp:lastModifiedBy>
  <dcterms:modified xsi:type="dcterms:W3CDTF">2010-03-10T16:22:51Z</dcterms:modified>
  <cp:revision>11</cp:revision>
  <dc:subject/>
  <dc:title>Redbook Online</dc:title>
</cp:coreProperties>
</file>